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C77-D226-408E-99FC-9B4A1D0D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55D-6D4C-438B-832A-A2F2063E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788-5B63-4EC0-BFE4-2BFEFF4A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33D-1BA7-424D-82EA-2B68E5F1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899-72B2-40C4-8B70-0B93D47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C9D-ADA7-41DC-9373-264D246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B03-7585-4C2C-9831-4F0C247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454-856B-4859-BFED-C0E68361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FC7-2FC4-40ED-AF1D-00704956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FD9-C172-46C3-BE6D-5363886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F18-4BC2-452B-83DF-70B83E3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929-B17C-4831-B659-B63206C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D263-CF8C-4425-8CBD-6F8A13C7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Parts of a Boo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472428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5909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2880" y="25909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819520" y="266688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62120" y="274320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2510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334120" y="4572000"/>
            <a:ext cx="12510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125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219320"/>
            <a:ext cx="822960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ory remark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ppear at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nt of the book before the main tex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llowing book parts all introduce the book to the read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eword, Prefa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2860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4382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ntroductory remark at the beginning of a book written by someone other that the author. It introduces or praises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33720"/>
            <a:ext cx="175248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E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roughout the history of mankind stories have played a  part in learning at all levels.  This book follows that tradit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san Wr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ptember 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2860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f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ntroductory remark at the beginning of a book. It explains the origins and history of the book written by the auth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133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048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asons that I wrote this book are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457200"/>
            <a:ext cx="266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9718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trodu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short summary or explanation of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2590920"/>
            <a:ext cx="19810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ople often ask, “Where do you find stories?” Stories are everywhere: in books and newspapers, in the movies, in everyday events, in dreams, in the minds and mouths of people, and, above all, in our own liv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380880"/>
            <a:ext cx="28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7432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9718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knowled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list of everyone who helped the author produce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2743200"/>
            <a:ext cx="1905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all  people who ask me where I found the stories and metaphors that I use in my work. Their sheer persistence and refusal to go out and find their own stories encouraged me to start work on my first draf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8088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382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ble of Cont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es after the Dedication Page. It is a list of the book’s contents, arranged in order by chapters or s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895480"/>
            <a:ext cx="2133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ks I Love…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y Time……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y Time….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Report…….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228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74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66688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0880"/>
            <a:ext cx="403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668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ok will conta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pter Head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lots of paragraphs each with a topic sentence and oftentim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ld Pr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xed Tex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429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 Extra Bold"/>
              </a:rPr>
              <a:t>BOLD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419720"/>
            <a:ext cx="14479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xed Tex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5146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hea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ld Pr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title, subtitle, or topic that starts a specific section of information in the main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335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Main 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5440" y="175248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83120" y="2209680"/>
            <a:ext cx="173052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i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Ec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 diverse and str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057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274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743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ub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251460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ps, Char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nonfiction book display information or data in the form of pictures, drawings or out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80880"/>
            <a:ext cx="403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14800" y="3276720"/>
            <a:ext cx="1476360" cy="1477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05720" y="2438280"/>
            <a:ext cx="1000080" cy="129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629400" y="4191120"/>
            <a:ext cx="1374840" cy="1139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384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733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66688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p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itle, short explanation, or description accompanying an illustration or a phot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286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Main Text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981080" cy="1307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86200" y="4267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The Taj Mahal in 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Welcom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the SMS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day you will learn all about the parts of a book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1.6.4 Recognize source of information in different parts of a book: (eg: title page, table of contents, index, glossary, Verso page, appendix, dedication page, preface/foreward, author information, bibliography, blurb, after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1. 6.5 Us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ext featur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locate information that answers questions: (eg: topic sentences, captions, bold print, chapter headings, subheading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0492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5909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end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ollection of important information like charts, tables, and other resources usually found in the back of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51460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7672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4290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3886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11480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ST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fici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i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ficia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22860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057400"/>
            <a:ext cx="2971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books hav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o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back of the book. Glossaries are usually only found in nonfiction boo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o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alphabetical list of terms found in the book and their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20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2286000"/>
            <a:ext cx="198108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uh-DAPT)-to change to fit will in a particula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BYE-0hm)-large regions or areas in the owrld that have similar weather, soil, plants and aanim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KAHR-nuh-vor)-An animal that eats only m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2286000"/>
            <a:ext cx="198108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uh-DAPT)-to change to fit will in a particula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BYE-0hm)-large regions or areas in the owrld that have similar weather, soil, plants and aanim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KAHR-nuh-vor)-An animal that eats only m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358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880" y="281952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alphabetical list in the back of the book that lists the topics found in a book and what page numbers the topics are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2743200"/>
            <a:ext cx="2133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pine tundra,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tlers, 25 ,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me, 5,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bber, 10,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ibou, 7, 19, 21, 25-31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457200"/>
            <a:ext cx="31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Back of the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5909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bliograp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list of books, articles and other resources the author used in writing th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2590920"/>
            <a:ext cx="220968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nfield J, Hansen MV. Chicken Soup for the Soul. London: Vermillion, 200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gan J, Rinvoulcri M. Once Upon a Time. Cambridge: Cambridge University Press, 198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inkola, Estes. C. Women Who Run with the Wolves. London: Rifer, 199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That’s All Fo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5715000"/>
            <a:ext cx="74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oilerroom-equipment.com/images/ThatsAllFolks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77120" y="914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Front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Sp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Cal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2670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57913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6477120" y="205704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590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8098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Author and Illu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6400800" y="320004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6172200" y="48769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The Outside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25909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90920" y="0"/>
            <a:ext cx="4125960" cy="6610320"/>
            <a:chOff x="2590920" y="0"/>
            <a:chExt cx="4125960" cy="66103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590920" y="0"/>
              <a:ext cx="4125960" cy="66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9734000">
              <a:off x="4627080" y="2723400"/>
              <a:ext cx="14965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22000">
              <a:off x="3871800" y="4042080"/>
              <a:ext cx="24188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ma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llustrat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Iman Art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">
              <a:off x="2964960" y="5103360"/>
              <a:ext cx="972360" cy="10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058000">
              <a:off x="2222280" y="3255120"/>
              <a:ext cx="2041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I love to Re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81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The Outside of a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609560"/>
            <a:ext cx="2905200" cy="4553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9880" y="175248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time the outside of a book is covered with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ok Jacke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is is the paper or plastic coated covering of a book that is found on the outside of the book which features the title of the book, the author, a colorful photo, and often a brie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nop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summary of the book and some biographical information on the auth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572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251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ntispie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on the left-hand page opposite the title page that might have an illustration or painting. Often found in biographies or history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201132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1981080"/>
            <a:ext cx="182880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ove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 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n Art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k Maker In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ke Oswego, Ore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362320"/>
            <a:ext cx="2666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books hav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lf Title P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mes righ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the full Title Page. It tells us the title of the book only and usually has an illu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365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52680" y="1676520"/>
            <a:ext cx="5308560" cy="4521240"/>
            <a:chOff x="3352680" y="1676520"/>
            <a:chExt cx="5308560" cy="45212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3352680" y="1676520"/>
              <a:ext cx="530856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248160" y="28195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010280" y="3810240"/>
              <a:ext cx="83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240" y="266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304812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04920" y="0"/>
            <a:ext cx="358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905120"/>
            <a:ext cx="25909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itle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s at the beginning of a book, usually the second or third right-hand pag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itle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ells us the same information as the front cover PLUS it tells us who the publisher is and where the publishing company is lo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486400" cy="4671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124080" y="1447920"/>
            <a:ext cx="4876560" cy="4108680"/>
            <a:chOff x="3124080" y="1447920"/>
            <a:chExt cx="4876560" cy="4108680"/>
          </a:xfrm>
        </p:grpSpPr>
        <p:sp>
          <p:nvSpPr>
            <p:cNvPr id="92" name=""/>
            <p:cNvSpPr/>
            <p:nvPr/>
          </p:nvSpPr>
          <p:spPr>
            <a:xfrm>
              <a:off x="5943240" y="1447920"/>
              <a:ext cx="205740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 Love To Re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a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lustrat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an 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 Maker Inc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ndy, Oreg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5840" y="22096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28191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or and Illust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440" y="419076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bli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457164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 of Pub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8840" y="259056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8840" y="350496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160" y="457164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160" y="49528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91120" y="4343400"/>
            <a:ext cx="38088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724280"/>
            <a:ext cx="38088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23623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erso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s the reverse or back of the Title Page. Sometimes it is called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opyright P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tells us the year the book was published and other publishing and printing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1999 by Ima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, including the right of reproduction in whole or in part in any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86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381200" y="3009600"/>
            <a:ext cx="838440" cy="152640"/>
          </a:xfrm>
          <a:prstGeom prst="rightArrow">
            <a:avLst>
              <a:gd name="adj1" fmla="val 50000"/>
              <a:gd name="adj2" fmla="val 1373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581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95480" y="1523880"/>
            <a:ext cx="6248520" cy="4521240"/>
            <a:chOff x="2895480" y="1523880"/>
            <a:chExt cx="6248520" cy="45212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809880" y="1523880"/>
              <a:ext cx="533412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895480" y="297144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pyright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88584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4495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8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ide the Front of a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31240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Dedication P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usually comes right before or after the Title Page.  Sometimes the dedication is added to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erso P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Dedicati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 where the author and/or illustrator write a short statement thanking someone or a group of people for their support, help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d inspi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308560" cy="4521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my family who inspired me and helped me write this b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514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22:15:25Z</dcterms:created>
  <dc:creator>LOSD</dc:creator>
  <dc:description/>
  <dc:language>en-US</dc:language>
  <cp:lastModifiedBy>Marla Moore</cp:lastModifiedBy>
  <dcterms:modified xsi:type="dcterms:W3CDTF">2009-10-29T16:45:49Z</dcterms:modified>
  <cp:revision>89</cp:revision>
  <dc:subject/>
  <dc:title>Parts of A Book</dc:title>
</cp:coreProperties>
</file>